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5d5"/>
                </a:solidFill>
                <a:latin typeface="Agilent TT Cond"/>
              </a:rPr>
              <a:t>Click to move the slide</a:t>
            </a: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DEA4-0F16-4B09-A464-61167ED4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E622-2C61-480F-9315-7F90B9FF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230-CB7B-4901-A9E7-6BDBDECD0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5F42-874E-4577-98A7-E36BB11A1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FD12-6A38-4DFC-B9D1-9EAF4DDAF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0324-B263-4B72-B4D9-854AC863C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0A17-51A9-4AD3-9A9A-15CA90534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900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2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900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52080"/>
            <a:ext cx="8213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900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84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52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900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84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52080"/>
            <a:ext cx="8213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293760" indent="-2937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1" marL="75240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1028880" indent="-1191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Font typeface="Agilent TT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3" marL="160164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4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5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6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5d5"/>
                </a:solidFill>
                <a:latin typeface="Agilent TT Cond"/>
              </a:rPr>
              <a:t>Click to edit the title text format</a:t>
            </a: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pic>
        <p:nvPicPr>
          <p:cNvPr id="2" name="Picture 4" descr="2c_CorporateSig-woHL"/>
          <p:cNvPicPr/>
          <p:nvPr/>
        </p:nvPicPr>
        <p:blipFill>
          <a:blip r:embed="rId2"/>
          <a:stretch/>
        </p:blipFill>
        <p:spPr>
          <a:xfrm>
            <a:off x="4272120" y="6292800"/>
            <a:ext cx="2360520" cy="544680"/>
          </a:xfrm>
          <a:prstGeom prst="rect">
            <a:avLst/>
          </a:prstGeom>
          <a:ln w="0">
            <a:noFill/>
          </a:ln>
        </p:spPr>
      </p:pic>
      <p:sp>
        <p:nvSpPr>
          <p:cNvPr id="3" name="Text Box 7"/>
          <p:cNvSpPr/>
          <p:nvPr/>
        </p:nvSpPr>
        <p:spPr>
          <a:xfrm>
            <a:off x="8277480" y="6553080"/>
            <a:ext cx="9504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Page </a:t>
            </a:r>
            <a:fld id="{0AC76FBC-7B2A-4D84-8E4B-C2BBE3EF72A8}" type="slidenum"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bkg01_15"/>
          <p:cNvPicPr/>
          <p:nvPr/>
        </p:nvPicPr>
        <p:blipFill>
          <a:blip r:embed="rId2"/>
          <a:stretch/>
        </p:blipFill>
        <p:spPr>
          <a:xfrm>
            <a:off x="0" y="0"/>
            <a:ext cx="9134640" cy="5238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2c_CorporateSig-woHL"/>
          <p:cNvPicPr/>
          <p:nvPr/>
        </p:nvPicPr>
        <p:blipFill>
          <a:blip r:embed="rId3"/>
          <a:stretch/>
        </p:blipFill>
        <p:spPr>
          <a:xfrm>
            <a:off x="4106880" y="5438880"/>
            <a:ext cx="3728880" cy="86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293760" indent="-2937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1" marL="75240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1028880" indent="-1191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Font typeface="Agilent TT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3" marL="160164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4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5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6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5d5"/>
                </a:solidFill>
                <a:latin typeface="Agilent TT Cond"/>
              </a:rPr>
              <a:t>Click to edit the title text format</a:t>
            </a: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dn.tm.agilent.com/index.cgi" TargetMode="External"/><Relationship Id="rId2" Type="http://schemas.openxmlformats.org/officeDocument/2006/relationships/hyperlink" Target="http://www.agilent.com/find/pseriesfirmwar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0720" y="2706840"/>
            <a:ext cx="823608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7214f"/>
                </a:solidFill>
                <a:latin typeface="Agilent TT Cond"/>
              </a:rPr>
              <a:t>EPM-Series Power Meter(N1913/14A) Firmware Upgrade Process</a:t>
            </a:r>
            <a:endParaRPr b="1" lang="en-US" sz="3600" spc="-1" strike="noStrike">
              <a:solidFill>
                <a:srgbClr val="000000"/>
              </a:solidFill>
              <a:latin typeface="Agilent TT Cond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gilent TT Cond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4800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gilent TT Cond"/>
              </a:rPr>
              <a:t>Hardware/Software Requirements</a:t>
            </a:r>
            <a:endParaRPr b="1" lang="en-US" sz="24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0000"/>
          </a:bodyPr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-31860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current hardware requirements for this procedure are: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a) A PC running Windows 2000® or Windows XP®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b) A GPIB interface card, LAN connection, or USB port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-31860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current software requirements for this procedure are: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a) A VISA library (e.g. Agilent IO Libraries)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b) The EPM-series Firmware Files for your instrument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c) The EPM-series Firmware Upgrade Application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FwUpdateApp.exe)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gilent TT Cond"/>
              </a:rPr>
              <a:t>Note: This procedure has not been tested on other versions of Windows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3520" y="504720"/>
            <a:ext cx="713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</a:t>
            </a:r>
            <a:endParaRPr b="1" lang="en-US" sz="2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gilent TT Cond"/>
              </a:rPr>
              <a:t>Obtaining The Software</a:t>
            </a:r>
            <a:br>
              <a:rPr sz="2400"/>
            </a:br>
            <a:endParaRPr b="1" lang="en-US" sz="24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1879560"/>
            <a:ext cx="838188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0" bIns="0" anchor="t">
            <a:spAutoFit/>
          </a:bodyPr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latest version of the Agilent IO Libraries can be obtained from the following link:</a:t>
            </a:r>
            <a:br>
              <a:rPr sz="2200"/>
            </a:br>
            <a:r>
              <a:rPr b="0" lang="en-US" sz="2200" spc="-1" strike="noStrike" u="sng">
                <a:solidFill>
                  <a:srgbClr val="8bafe0"/>
                </a:solidFill>
                <a:uFillTx/>
                <a:latin typeface="Agilent TT Cond"/>
                <a:hlinkClick r:id="rId1"/>
              </a:rPr>
              <a:t>Agilent IO Libraries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P-Series Firmware Upgrade Application can be obtained from the following link:</a:t>
            </a:r>
            <a:br>
              <a:rPr sz="2200"/>
            </a:br>
            <a:r>
              <a:rPr b="0" lang="en-US" sz="2200" spc="-1" strike="noStrike" u="sng">
                <a:solidFill>
                  <a:srgbClr val="8bafe0"/>
                </a:solidFill>
                <a:uFillTx/>
                <a:latin typeface="Agilent TT Cond"/>
                <a:hlinkClick r:id="rId2"/>
              </a:rPr>
              <a:t>EPM-series firmware upgrade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Save the file to PC hard drive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gilent TT Cond"/>
              </a:rPr>
              <a:t>Note: This is a WinZip® executable file that must be unpacked before use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EPM-series Firmware Upgrade Application is included in the WinZip® executable file (“FwUpdateApp.exe”)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Agilent TT C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863640" y="504720"/>
            <a:ext cx="713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Step 3 : Firmware Upgrade (Cont’)</a:t>
            </a:r>
            <a:endParaRPr b="1" lang="en-US" sz="2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891240" cy="3581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532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4724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5000"/>
          </a:bodyPr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1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Run the ‘FwUpdateApp.exe’ application. This does not need to be installed – simply double-click on the file to run it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2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on the ‘Browse’ button next to ‘Release Directory’, and select the directory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in which the firmware files resid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3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on the drop-down arrow next to ‘VISA Instrument’, and select the unit to b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upgraded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Note: This drop-down feature only works for upgrades over GPIB &amp; USB. If the upgrade is being performed over LAN, then enter the IP address in this box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6552720" y="685800"/>
            <a:ext cx="762120" cy="1447920"/>
          </a:xfrm>
          <a:prstGeom prst="line">
            <a:avLst/>
          </a:prstGeom>
          <a:ln w="19080">
            <a:solidFill>
              <a:srgbClr val="008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8" name="Line 8"/>
          <p:cNvSpPr/>
          <p:nvPr/>
        </p:nvSpPr>
        <p:spPr>
          <a:xfrm flipH="1">
            <a:off x="7086600" y="1066680"/>
            <a:ext cx="533520" cy="1447920"/>
          </a:xfrm>
          <a:prstGeom prst="line">
            <a:avLst/>
          </a:prstGeom>
          <a:ln w="19080">
            <a:solidFill>
              <a:srgbClr val="008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315200" y="533520"/>
            <a:ext cx="1523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Latest Revisio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7467480" y="838080"/>
            <a:ext cx="152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GPIB Addres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4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on the ‘Upgrade’ button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‘Yes’ on the warning pop-up whe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asked about instrument saved states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45054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3040" y="380880"/>
            <a:ext cx="82137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5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A warning message to notify the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instrument’s saved state(s) will be erased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‘Yes’ to proceed with the installation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43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532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724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6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‘OK’ on the pop-up that appear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when the upgrade is complete.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The power meter will take less tha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5 minutes to complete the upgrad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Now, the power meter will now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automatically execute a power cycl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154800" y="5519880"/>
            <a:ext cx="7549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7214f"/>
                </a:solidFill>
                <a:latin typeface="Agilent TT Cond"/>
              </a:rPr>
              <a:t>You have successfully upgrade the new firmware!</a:t>
            </a:r>
            <a:endParaRPr b="1" lang="en-US" sz="24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2:15:29Z</dcterms:created>
  <dc:creator>sookhua</dc:creator>
  <dc:description/>
  <dc:language>en-US</dc:language>
  <cp:lastModifiedBy>guanleng</cp:lastModifiedBy>
  <dcterms:modified xsi:type="dcterms:W3CDTF">2010-06-11T06:13:16Z</dcterms:modified>
  <cp:revision>25</cp:revision>
  <dc:subject/>
  <dc:title>Slide 1</dc:title>
</cp:coreProperties>
</file>