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5d5"/>
                </a:solidFill>
                <a:latin typeface="Agilent TT Cond"/>
              </a:rPr>
              <a:t>Click to move the slide</a:t>
            </a: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3845-6847-492A-ADE0-8FDCA3D0F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D199-9A4D-48FC-A622-D4C6085F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0FEC-6F99-4334-9C7F-9F2F23883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0A48-987F-4CD9-955F-449610631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08DA-73E6-4FC7-90EE-8BBAC9FC3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6500-74EF-4A24-BBF2-957C77490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39AB-37E5-41A0-8260-F0CD65FFD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520" y="345996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676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900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84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52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900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84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52080"/>
            <a:ext cx="8213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676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520" y="345996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676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900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840" y="157320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52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900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840" y="3459960"/>
            <a:ext cx="263736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52080"/>
            <a:ext cx="821376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6760" y="345996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952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6760" y="1573200"/>
            <a:ext cx="399708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520" y="3459960"/>
            <a:ext cx="8191440" cy="172260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293760" indent="-29376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1" marL="752400" indent="-23004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1028880" indent="-11916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Font typeface="Agilent TT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3" marL="1601640" indent="-23004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4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5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6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5d5"/>
                </a:solidFill>
                <a:latin typeface="Agilent TT Cond"/>
              </a:rPr>
              <a:t>Click to edit the title text format</a:t>
            </a: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  <p:pic>
        <p:nvPicPr>
          <p:cNvPr id="2" name="Picture 4" descr="2c_CorporateSig-woHL"/>
          <p:cNvPicPr/>
          <p:nvPr/>
        </p:nvPicPr>
        <p:blipFill>
          <a:blip r:embed="rId2"/>
          <a:stretch/>
        </p:blipFill>
        <p:spPr>
          <a:xfrm>
            <a:off x="4272120" y="6292800"/>
            <a:ext cx="2360520" cy="544680"/>
          </a:xfrm>
          <a:prstGeom prst="rect">
            <a:avLst/>
          </a:prstGeom>
          <a:ln w="0">
            <a:noFill/>
          </a:ln>
        </p:spPr>
      </p:pic>
      <p:sp>
        <p:nvSpPr>
          <p:cNvPr id="3" name="Text Box 7"/>
          <p:cNvSpPr/>
          <p:nvPr/>
        </p:nvSpPr>
        <p:spPr>
          <a:xfrm>
            <a:off x="8277480" y="6553080"/>
            <a:ext cx="95040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Page </a:t>
            </a:r>
            <a:fld id="{F8564B3B-C5E8-4A69-86F1-DC6D8E8B8826}" type="slidenum">
              <a:rPr b="0" lang="en-US" sz="1000" spc="-1" strike="noStrike">
                <a:solidFill>
                  <a:srgbClr val="000000"/>
                </a:solidFill>
                <a:latin typeface="Agilent TT Cond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bkg01_15"/>
          <p:cNvPicPr/>
          <p:nvPr/>
        </p:nvPicPr>
        <p:blipFill>
          <a:blip r:embed="rId2"/>
          <a:stretch/>
        </p:blipFill>
        <p:spPr>
          <a:xfrm>
            <a:off x="0" y="0"/>
            <a:ext cx="9134640" cy="52387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5" descr="2c_CorporateSig-woHL"/>
          <p:cNvPicPr/>
          <p:nvPr/>
        </p:nvPicPr>
        <p:blipFill>
          <a:blip r:embed="rId3"/>
          <a:stretch/>
        </p:blipFill>
        <p:spPr>
          <a:xfrm>
            <a:off x="4106880" y="5438880"/>
            <a:ext cx="3728880" cy="86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79520" y="1573200"/>
            <a:ext cx="8191440" cy="361152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marL="293760" indent="-29376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1" marL="752400" indent="-23004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1028880" indent="-11916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Font typeface="Agilent TT C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3" marL="1601640" indent="-23004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4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5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6" marL="2063880" indent="-230400">
              <a:lnSpc>
                <a:spcPct val="95000"/>
              </a:lnSpc>
              <a:spcBef>
                <a:spcPts val="1375"/>
              </a:spcBef>
              <a:spcAft>
                <a:spcPts val="414"/>
              </a:spcAft>
              <a:buClr>
                <a:srgbClr val="000000"/>
              </a:buClr>
              <a:buFont typeface="Agilent TT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gilent TT Cond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5d5"/>
                </a:solidFill>
                <a:latin typeface="Agilent TT Cond"/>
              </a:rPr>
              <a:t>Click to edit the title text format</a:t>
            </a:r>
            <a:endParaRPr b="1" lang="en-US" sz="3200" spc="-1" strike="noStrike">
              <a:solidFill>
                <a:srgbClr val="0085d5"/>
              </a:solidFill>
              <a:latin typeface="Agilent TT C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dn.tm.agilent.com/index.cgi" TargetMode="External"/><Relationship Id="rId2" Type="http://schemas.openxmlformats.org/officeDocument/2006/relationships/hyperlink" Target="http://www.agilent.com/find/pseriesfirmwar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0720" y="2706840"/>
            <a:ext cx="8236080" cy="13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7214f"/>
                </a:solidFill>
                <a:latin typeface="Agilent TT Cond"/>
              </a:rPr>
              <a:t>EPM-Series Power Meter(N1913/14A) Firmware Upgrade Process</a:t>
            </a:r>
            <a:endParaRPr b="1" lang="en-US" sz="3600" spc="-1" strike="noStrike">
              <a:solidFill>
                <a:srgbClr val="000000"/>
              </a:solidFill>
              <a:latin typeface="Agilent TT Cond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gilent TT Cond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4800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gilent TT Cond"/>
              </a:rPr>
              <a:t>Hardware/Software Requirements</a:t>
            </a:r>
            <a:endParaRPr b="1" lang="en-US" sz="24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0000"/>
          </a:bodyPr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-31860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current hardware requirements for this procedure are: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a) A PC running Windows 2000® or Windows XP®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b) A GPIB interface card, LAN connection, or USB port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-31860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Clr>
                <a:srgbClr val="a7214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current software requirements for this procedure are: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a) A VISA library (e.g. Agilent IO Libraries)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b) The EPM-series Firmware Files for your instrument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c) The EPM-series Firmware Upgrade Application 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(FwUpdateApp.exe)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gilent TT Cond"/>
              </a:rPr>
              <a:t>Note: This procedure has not been tested on other versions of Windows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marL="469800" indent="0">
              <a:lnSpc>
                <a:spcPct val="75000"/>
              </a:lnSpc>
              <a:spcBef>
                <a:spcPts val="1375"/>
              </a:spcBef>
              <a:spcAft>
                <a:spcPts val="4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3520" y="504720"/>
            <a:ext cx="713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</a:t>
            </a:r>
            <a:endParaRPr b="1" lang="en-US" sz="2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gilent TT Cond"/>
              </a:rPr>
              <a:t>Obtaining The Software</a:t>
            </a:r>
            <a:br>
              <a:rPr sz="2400"/>
            </a:br>
            <a:endParaRPr b="1" lang="en-US" sz="24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228600" y="1879560"/>
            <a:ext cx="8381880" cy="45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0" bIns="0" anchor="t">
            <a:spAutoFit/>
          </a:bodyPr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latest version of the Agilent IO Libraries can be obtained from the following link:</a:t>
            </a:r>
            <a:br>
              <a:rPr sz="2200"/>
            </a:br>
            <a:r>
              <a:rPr b="0" lang="en-US" sz="2200" spc="-1" strike="noStrike" u="sng">
                <a:solidFill>
                  <a:srgbClr val="8bafe0"/>
                </a:solidFill>
                <a:uFillTx/>
                <a:latin typeface="Agilent TT Cond"/>
                <a:hlinkClick r:id="rId1"/>
              </a:rPr>
              <a:t>Agilent IO Libraries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P-Series Firmware Upgrade Application can be obtained from the following link:</a:t>
            </a:r>
            <a:br>
              <a:rPr sz="2200"/>
            </a:br>
            <a:r>
              <a:rPr b="0" lang="en-US" sz="2200" spc="-1" strike="noStrike" u="sng">
                <a:solidFill>
                  <a:srgbClr val="8bafe0"/>
                </a:solidFill>
                <a:uFillTx/>
                <a:latin typeface="Agilent TT Cond"/>
                <a:hlinkClick r:id="rId2"/>
              </a:rPr>
              <a:t>EPM-series firmware upgrade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Save the file to PC hard drive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gilent TT Cond"/>
              </a:rPr>
              <a:t>Note: This is a WinZip® executable file that must be unpacked before use.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gilent TT Cond"/>
              </a:rPr>
              <a:t>The EPM-series Firmware Upgrade Application is included in the WinZip® executable file (“FwUpdateApp.exe”)</a:t>
            </a: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  <a:p>
            <a:pPr lvl="2" marL="974880" indent="-452520">
              <a:lnSpc>
                <a:spcPct val="95000"/>
              </a:lnSpc>
              <a:spcAft>
                <a:spcPts val="414"/>
              </a:spcAft>
              <a:buClr>
                <a:srgbClr val="a7214f"/>
              </a:buClr>
              <a:buFont typeface="Agilent TT Cond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863640" y="504720"/>
            <a:ext cx="713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Step 3 : Firmware Upgrade (Cont’)</a:t>
            </a:r>
            <a:endParaRPr b="1" lang="en-US" sz="2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1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891240" cy="3581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532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 Process</a:t>
            </a:r>
            <a:br>
              <a:rPr sz="2800"/>
            </a:br>
            <a:endParaRPr b="1" lang="en-US" sz="28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4724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 fontScale="95000"/>
          </a:bodyPr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1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Run the ‘FwUpdateApp.exe’ application. This does not need to be installed – simply double-click on the file to run it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2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on the ‘Browse’ button next to ‘Release Directory’, and select the directory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in which the firmware files reside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3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on the drop-down arrow next to ‘VISA Instrument’, and select the unit to be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upgraded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105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Note: This drop-down feature only works for upgrades over GPIB &amp; USB. If the upgrade is being performed over LAN, then enter the IP address in this box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7" name="Line 7"/>
          <p:cNvSpPr/>
          <p:nvPr/>
        </p:nvSpPr>
        <p:spPr>
          <a:xfrm flipH="1">
            <a:off x="6552720" y="685800"/>
            <a:ext cx="762120" cy="1447920"/>
          </a:xfrm>
          <a:prstGeom prst="line">
            <a:avLst/>
          </a:prstGeom>
          <a:ln w="19080">
            <a:solidFill>
              <a:srgbClr val="008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8" name="Line 8"/>
          <p:cNvSpPr/>
          <p:nvPr/>
        </p:nvSpPr>
        <p:spPr>
          <a:xfrm flipH="1">
            <a:off x="7086600" y="1066680"/>
            <a:ext cx="533520" cy="1447920"/>
          </a:xfrm>
          <a:prstGeom prst="line">
            <a:avLst/>
          </a:prstGeom>
          <a:ln w="19080">
            <a:solidFill>
              <a:srgbClr val="008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2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315200" y="533520"/>
            <a:ext cx="1523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Latest Revisio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7467480" y="838080"/>
            <a:ext cx="152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ilent TT Cond"/>
              </a:rPr>
              <a:t>GPIB Addres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 Process</a:t>
            </a:r>
            <a:br>
              <a:rPr sz="2800"/>
            </a:br>
            <a:endParaRPr b="1" lang="en-US" sz="28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4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on the ‘Upgrade’ button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‘Yes’ on the warning pop-up whe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asked about instrument saved states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4495680" y="1143000"/>
            <a:ext cx="450540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3040" y="380880"/>
            <a:ext cx="821376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 Process</a:t>
            </a:r>
            <a:br>
              <a:rPr sz="2800"/>
            </a:br>
            <a:endParaRPr b="1" lang="en-US" sz="28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5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A warning message to notify the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instrument’s saved state(s) will be erased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9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‘Yes’ to proceed with the installation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438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5320" y="352080"/>
            <a:ext cx="821376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5d5"/>
                </a:solidFill>
                <a:latin typeface="Agilent TT Cond"/>
              </a:rPr>
              <a:t>Firmware Upgrade Process</a:t>
            </a:r>
            <a:br>
              <a:rPr sz="2800"/>
            </a:br>
            <a:endParaRPr b="1" lang="en-US" sz="2800" spc="-1" strike="noStrike">
              <a:solidFill>
                <a:srgbClr val="0085d5"/>
              </a:solidFill>
              <a:latin typeface="Agilent TT C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4724640" cy="5181480"/>
          </a:xfrm>
          <a:prstGeom prst="rect">
            <a:avLst/>
          </a:prstGeom>
          <a:noFill/>
          <a:ln w="0">
            <a:noFill/>
          </a:ln>
        </p:spPr>
        <p:txBody>
          <a:bodyPr lIns="0" rIns="109800" tIns="0" bIns="0" anchor="t">
            <a:normAutofit/>
          </a:bodyPr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gilent TT Cond"/>
              </a:rPr>
              <a:t>Step 6: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Click ‘OK’ on the pop-up that appears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when the upgrade is complete.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The power meter will take less than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5 minutes to complete the upgrade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Now, the power meter will now 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  <a:p>
            <a:pPr indent="0">
              <a:lnSpc>
                <a:spcPct val="75000"/>
              </a:lnSpc>
              <a:spcBef>
                <a:spcPts val="1125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gilent TT Cond"/>
              </a:rPr>
              <a:t>automatically execute a power cycle.</a:t>
            </a:r>
            <a:endParaRPr b="1" lang="en-US" sz="1800" spc="-1" strike="noStrike">
              <a:solidFill>
                <a:srgbClr val="000000"/>
              </a:solidFill>
              <a:latin typeface="Agilent TT Cond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-154800" y="5519880"/>
            <a:ext cx="75492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7214f"/>
                </a:solidFill>
                <a:latin typeface="Agilent TT Cond"/>
              </a:rPr>
              <a:t>You have successfully upgrade the new firmware!</a:t>
            </a:r>
            <a:endParaRPr b="1" lang="en-US" sz="2400" spc="-1" strike="noStrike">
              <a:solidFill>
                <a:srgbClr val="000000"/>
              </a:solidFill>
              <a:latin typeface="Agilent TT Cond"/>
            </a:endParaRPr>
          </a:p>
        </p:txBody>
      </p:sp>
      <p:pic>
        <p:nvPicPr>
          <p:cNvPr id="110" name="Picture 8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2:15:29Z</dcterms:created>
  <dc:creator>sookhua</dc:creator>
  <dc:description/>
  <dc:language>en-US</dc:language>
  <cp:lastModifiedBy>guanleng</cp:lastModifiedBy>
  <dcterms:modified xsi:type="dcterms:W3CDTF">2010-06-11T06:13:16Z</dcterms:modified>
  <cp:revision>25</cp:revision>
  <dc:subject/>
  <dc:title>Slide 1</dc:title>
</cp:coreProperties>
</file>