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move the slide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B4F-A715-4765-8B6C-A23D49A3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73D9-E514-45ED-B8C7-89115E54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A469-DB59-496A-94B1-14E21BA8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F289-1261-4B30-A743-AE0964BA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F69-AC46-4ED7-BF80-2AE67572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BB9-2478-45E5-9540-B24F76E8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D9D1-9940-48A0-BD5B-6D9F42B1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pic>
        <p:nvPicPr>
          <p:cNvPr id="2" name="Picture 4" descr="2c_CorporateSig-woHL"/>
          <p:cNvPicPr/>
          <p:nvPr/>
        </p:nvPicPr>
        <p:blipFill>
          <a:blip r:embed="rId2"/>
          <a:stretch/>
        </p:blipFill>
        <p:spPr>
          <a:xfrm>
            <a:off x="4272120" y="6292800"/>
            <a:ext cx="2360520" cy="544680"/>
          </a:xfrm>
          <a:prstGeom prst="rect">
            <a:avLst/>
          </a:prstGeom>
          <a:ln w="0">
            <a:noFill/>
          </a:ln>
        </p:spPr>
      </p:pic>
      <p:sp>
        <p:nvSpPr>
          <p:cNvPr id="3" name="Text Box 7"/>
          <p:cNvSpPr/>
          <p:nvPr/>
        </p:nvSpPr>
        <p:spPr>
          <a:xfrm>
            <a:off x="8277480" y="6553080"/>
            <a:ext cx="950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B9B5D53C-6C37-4D10-9243-274310A803BC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kg01_15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2c_CorporateSig-woHL"/>
          <p:cNvPicPr/>
          <p:nvPr/>
        </p:nvPicPr>
        <p:blipFill>
          <a:blip r:embed="rId3"/>
          <a:stretch/>
        </p:blipFill>
        <p:spPr>
          <a:xfrm>
            <a:off x="4106880" y="5438880"/>
            <a:ext cx="3728880" cy="86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n.tm.agilent.com/index.cgi" TargetMode="External"/><Relationship Id="rId2" Type="http://schemas.openxmlformats.org/officeDocument/2006/relationships/hyperlink" Target="http://www.agilent.com/find/pseriesfirmwar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0720" y="2706840"/>
            <a:ext cx="823608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214f"/>
                </a:solidFill>
                <a:latin typeface="Agilent TT Cond"/>
              </a:rPr>
              <a:t>EPM-Series Power Meter(N1913/14A) Firmware Upgrade Process</a:t>
            </a: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4800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Hardware/Software Requirements</a:t>
            </a: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0000"/>
          </a:bodyPr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hard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PC running Windows 2000® or Windows XP®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A GPIB interface card, LAN connection, or USB por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soft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VISA library (e.g. Agilent IO Libraries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The EPM-series Firmware Files for your instrumen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c) The EPM-series Firmware Upgrade Application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FwUpdateApp.exe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procedure has not been tested on other versions of Windows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Obtaining The Software</a:t>
            </a:r>
            <a:br>
              <a:rPr sz="2400"/>
            </a:b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1879560"/>
            <a:ext cx="838188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spAutoFit/>
          </a:bodyPr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latest version of the Agilent IO Libraries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1"/>
              </a:rPr>
              <a:t>Agilent IO Libraries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P-Series Firmware Upgrade Application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2"/>
              </a:rPr>
              <a:t>EPM-series firmware upgrad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Save the file to PC hard driv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is a WinZip® executable file that must be unpacked before use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EPM-series Firmware Upgrade Application is included in the WinZip® executable file (“FwUpdateApp.exe”)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6364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Step 3 : Firmware Upgrade (Cont’)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891240" cy="3581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5000"/>
          </a:bodyPr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1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Run the ‘FwUpdateApp.exe’ application. This does not need to be installed – simply double-click on the file to run it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2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Browse’ button next to ‘Release Directory’, and select the director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 which the firmware files resi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3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drop-down arrow next to ‘VISA Instrument’, and select the unit to b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upgrad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te: This drop-down feature only works for upgrades over GPIB &amp; USB. If the upgrade is being performed over LAN, then enter the IP address in this box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6552720" y="685800"/>
            <a:ext cx="7621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7086600" y="1066680"/>
            <a:ext cx="5335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315200" y="533520"/>
            <a:ext cx="152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Latest Revis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467480" y="838080"/>
            <a:ext cx="152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GPIB Addr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4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Upgrade’ butt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on the warning pop-up whe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sked about instrument saved states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505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3040" y="380880"/>
            <a:ext cx="82137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5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 warning message to notify the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strument’s saved state(s) will be eras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to proceed with the installati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4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6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OK’ on the pop-up that appear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when the upgrade is complete.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e power meter will take less tha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5 minutes to complete the upgra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w, the power meter will now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utomatically execute a power cycl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154800" y="5519880"/>
            <a:ext cx="7549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7214f"/>
                </a:solidFill>
                <a:latin typeface="Agilent TT Cond"/>
              </a:rPr>
              <a:t>You have successfully upgrade the new firmware!</a:t>
            </a:r>
            <a:endParaRPr b="1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2:15:29Z</dcterms:created>
  <dc:creator>sookhua</dc:creator>
  <dc:description/>
  <dc:language>en-US</dc:language>
  <cp:lastModifiedBy>guanleng</cp:lastModifiedBy>
  <dcterms:modified xsi:type="dcterms:W3CDTF">2010-06-11T06:13:16Z</dcterms:modified>
  <cp:revision>25</cp:revision>
  <dc:subject/>
  <dc:title>Slide 1</dc:title>
</cp:coreProperties>
</file>